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jpeg" ContentType="image/jpeg"/>
  <Override PartName="/ppt/media/image7.wmf" ContentType="image/x-wmf"/>
  <Override PartName="/ppt/media/image6.jpeg" ContentType="image/jpeg"/>
  <Override PartName="/ppt/media/glass.wav" ContentType="audio/x-wav"/>
  <Override PartName="/ppt/media/applause.wav" ContentType="audio/x-wav"/>
  <Override PartName="/ppt/media/chimes.wav" ContentType="audio/x-wav"/>
  <Override PartName="/ppt/media/gunshot.wav" ContentType="audio/x-wav"/>
  <Override PartName="/ppt/media/image4.jpeg" ContentType="image/jpeg"/>
  <Override PartName="/ppt/media/image2.png" ContentType="image/png"/>
  <Override PartName="/ppt/media/image10.wmf" ContentType="image/x-wmf"/>
  <Override PartName="/ppt/media/cashreg.wav" ContentType="audio/x-wav"/>
  <Override PartName="/ppt/media/image8.wmf" ContentType="image/x-wmf"/>
  <Override PartName="/ppt/media/image12.jpeg" ContentType="image/jpeg"/>
  <Override PartName="/ppt/media/image16.gif" ContentType="image/gif"/>
  <Override PartName="/ppt/media/whoosh.wav" ContentType="audio/x-wav"/>
  <Override PartName="/ppt/media/image15.jpeg" ContentType="image/jpeg"/>
  <Override PartName="/ppt/media/type.wav" ContentType="audio/x-wav"/>
  <Override PartName="/ppt/media/image13.jpeg" ContentType="image/jpeg"/>
  <Override PartName="/ppt/media/laser.wav" ContentType="audio/x-wav"/>
  <Override PartName="/ppt/media/image11.jpeg" ContentType="image/jpeg"/>
  <Override PartName="/ppt/media/camera.wav" ContentType="audio/x-wav"/>
  <Override PartName="/ppt/media/image9.wmf" ContentType="image/x-wmf"/>
  <Override PartName="/ppt/media/image1.jpeg" ContentType="image/jpeg"/>
  <Override PartName="/ppt/media/image3.jpeg" ContentType="image/jpeg"/>
  <Override PartName="/ppt/media/image14.jpeg" ContentType="image/jpeg"/>
  <Override PartName="/ppt/media/carbrak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996-90B7-40AD-96EC-CBC06476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C15-70C8-4E06-80FB-B5F2DB1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7A3-B5D9-4E99-BEC3-A7ED8309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94D-91DC-44DA-A3CF-FE82A90C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8B42-4F67-456D-A85F-8AE53DBA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794F-81A3-4FF6-A5DC-5CE8D31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6099-48A4-4BB6-A751-FF8A7BA5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06D-3BA3-4B9B-9C9E-263519F1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4D50-5DFD-4352-9145-8A371DE5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F4F-3727-447B-BF2B-DCB53AA6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682-C5D2-4311-A059-E9DEE29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CCC-D5BB-4720-AA99-759CBFB4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963E-09BE-41BC-8680-ECA4894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1DEB-13F8-4C1B-94C0-BFDC1E8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A36A-587F-4A4B-8F7D-5C8D1D3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DCE-F171-4067-86E8-4AA147C8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8C14-FEEC-4C20-8F7F-3C014D44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5E3-A8B0-4056-8462-D0D923B0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54B-EEAD-4514-8A89-B6F957F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6C6-EFE6-4B68-B464-09634632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9F1-2EB7-42DD-BD88-39849A5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F78-9A97-46D0-807E-9C9786A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2C5-975B-41E9-A084-F9BD6FC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709-A505-4CC2-BF70-3F35ED0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CBA-C9E8-47DA-BB1A-8994F5F156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04E-08A9-4BE1-A1F5-B1AEEC79D0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FA0-B90C-4A9D-9C52-0D475E49F1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0DE7-0432-4C87-A883-10E620E42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whoosh.wav"/><Relationship Id="rId6" Type="http://schemas.openxmlformats.org/officeDocument/2006/relationships/audio" Target="../media/glass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20120" y="1295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00"/>
                </a:solidFill>
                <a:latin typeface="Times New Roman"/>
                <a:ea typeface="隶书"/>
              </a:rPr>
              <a:t>欢迎光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24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2E0-A7A2-4225-8C1E-ACCC8E0AA87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74521-30AE-4F11-825E-4553EE191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271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034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9640" y="290520"/>
            <a:ext cx="4859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牢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校风：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文明    求实   勤学   进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学风：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礼貌   求实    勤思   奋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640" y="3809880"/>
            <a:ext cx="7848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树立意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我为滇中争光荣  滇中光荣我光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4DA-3520-4190-A911-46CEF082399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8B5E3-0AB7-456E-8F1D-A45374403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班主任总结发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280" y="4648320"/>
            <a:ext cx="67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总之：勿以恶小而为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勿以善小而不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47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1880" y="1085760"/>
            <a:ext cx="6439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最重要的是两种行为习惯不能养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即妨碍他人的行为习惯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没有行为习惯的行为习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270-85C6-4876-AD62-B8EB2688FEC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6181D-6C2E-41ED-B07D-7B93ED37F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89840" y="457200"/>
            <a:ext cx="549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89840" y="411120"/>
            <a:ext cx="5493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8200" y="-2348640"/>
            <a:ext cx="1642680" cy="11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天高任鸟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海阔凭鱼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80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399-008E-4B61-92EE-BC90F4901D6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6701-AC69-4818-BEF9-5784F98D3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828800" y="1752480"/>
            <a:ext cx="6400800" cy="24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谢谢指导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04000" y="5562720"/>
            <a:ext cx="187164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E27-F524-41F4-9C71-EE77F6B8DED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01497-16F1-46E9-8D55-D86AD83206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方正舒体"/>
                <a:ea typeface="隶书"/>
              </a:rPr>
              <a:t>与不良的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宋体"/>
              </a:rPr>
              <a:t>      ——</a:t>
            </a:r>
            <a:r>
              <a:rPr b="1" i="1" lang="zh-CN" sz="4000" spc="-1" strike="noStrike">
                <a:solidFill>
                  <a:srgbClr val="ff00ff"/>
                </a:solidFill>
                <a:latin typeface="宋体"/>
              </a:rPr>
              <a:t>做一名合格的初一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057400"/>
            <a:ext cx="56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方正舒体"/>
                <a:ea typeface="隶书"/>
              </a:rPr>
              <a:t>行为习惯告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41B9-D012-4886-B823-C6975F6940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3820F9-25D4-400A-A97F-3F0979CBC5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27080" y="227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25640" y="139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什么是不良行为习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57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对自己和他人的身心有害，不利于自己和他人的身心健康；妨碍他人；影响自己和他人成长；不雅，有碍观瞻等等一些行为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27C-8334-429B-8B18-0FF445D1BEB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B8F3D-9BA6-4F5B-B2D8-C6BF7104A7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9900"/>
                </a:solidFill>
                <a:latin typeface="Times New Roman"/>
              </a:rPr>
              <a:t>中学生常见的不良行为习惯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883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66"/>
                </a:solidFill>
                <a:latin typeface="Times New Roman"/>
              </a:rPr>
              <a:t>就校内生活而言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课堂上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东张西望，精神不集中；不动手，不动脑，呆若木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不专心听讲，讲小话；老师或同学发言时，插嘴打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做跟课堂无关的事，涂鸦、写信、写字条，传送字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吃东西，喝水；跟同桌或前后左右桌的同学嬉戏玩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不做练习，不积极发言；不记笔记，不懂的知识不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课间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追逐打闹，大声喧哗，乱丢果皮纸屑，还有那令人厌恶的泡泡糖屑；说脏话，使用不文明语言；接水时，东张西望，水流得一地都是；用粉笔头掷人；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519-6AA7-42CF-9055-350FF924A8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45FA6-9690-444E-8EDD-720524DA6C06}" type="datetime1">
              <a:rPr lang="en-US"/>
              <a:t>07/30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70360" y="-50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就校外生活而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9968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按时回家， 上学、放学路上追逐打闹；不遵守交通法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乘坐公交车不尊老爱幼，主动让座；不文明语言出口成“脏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抽烟、酗酒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打架斗殴；不遵守法令条规，进营业性舞厅、歌厅、网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到家中，摆少爷、小姐脾气，不知老、不知幼，惟我独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书从来不看，字从来不写，父母的教诲——“最近 有点烦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0C5-71D0-49BE-A408-F8EF54678B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2AC1A-55FB-4314-B05E-5538B9763BE5}" type="datetime1">
              <a:rPr lang="en-US"/>
              <a:t>07/30/2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童年的生活是美好的。然而，就是在这美好的生活中，由于我们的不注意：父母的娇纵、溺爱，自己对自己的放松、宽恕，同学之间潜移默化的影响，我们每位同学，都或多或少养成了一些不良的行为习惯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我们都有哪些不良的行为习惯呢？如何纠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宋体"/>
              </a:rPr>
              <a:t>审视自己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722-175D-4BDD-B5F4-6F4E58C232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5AFB6-D418-4651-AA2C-39D4A6F8BFDC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现实生活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76720" cy="259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87200" y="304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922480" cy="213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354760" y="5181480"/>
            <a:ext cx="1155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743200" cy="1920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352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协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77960" y="4191120"/>
            <a:ext cx="7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B1E-E4C3-4D5D-AD67-29DE81CB06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68476-3C3E-4768-8976-7E452D6D8650}" type="datetime1">
              <a:rPr lang="en-US"/>
              <a:t>07/30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720" y="2590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贝多芬在失去听觉的情况下，仍然不停止工作，与命运抗争，我们的不良行为习惯难道就纠正不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名人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957-E189-41FD-A53F-CA8762DF5DF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05274-1AA6-4B14-B47C-C4CFCCCBAC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6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0400" y="380880"/>
            <a:ext cx="745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出淤泥而不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濯清涟而不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2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325-D4F1-4E66-AA6F-DF50106E71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85D41-CAD7-4CAF-8B0E-FCE0A6CD6A4E}" type="datetime1">
              <a:rPr lang="en-US"/>
              <a:t>07/30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4:17:20Z</dcterms:modified>
  <cp:revision>33</cp:revision>
  <dc:subject>主题班会课件(分28大类): http://shop62905894.taobao.com</dc:subject>
  <dc:title>主题班会课件(分28大类): http://shop62905894.taobao.com</dc:title>
</cp:coreProperties>
</file>